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7FE6-BE73-4423-B425-A98529295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4711-582E-4CCE-BCDD-CB6BE82DA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594B-3BDA-48D1-B4B1-6B5550A30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4E48-E1AD-475A-A5D7-AD30B228C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F793-7B0C-4113-B97E-ED63A13E2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A8DB-379E-400A-BE4C-9417FC9C7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F4B7-DB05-41F9-AA43-25A217761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04D9-FCB3-4251-8DA6-6949762A7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CCE6-D9DB-4D4F-8D1D-CD4AC38F5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120C-43A9-4462-A452-A9E8A3D6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F599-A74F-4B09-A47D-92F5476E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3702-FF0A-45A6-A238-42EDC659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F6440-9DA2-424D-9164-8159660094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-190440"/>
            <a:ext cx="9144000" cy="70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03:06Z</dcterms:created>
  <dc:creator>3WC</dc:creator>
  <dc:description/>
  <dc:language>en-US</dc:language>
  <cp:lastModifiedBy>3WC</cp:lastModifiedBy>
  <dcterms:modified xsi:type="dcterms:W3CDTF">1998-07-08T18:18:12Z</dcterms:modified>
  <cp:revision>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3</vt:r8>
  </property>
  <property fmtid="{D5CDD505-2E9C-101B-9397-08002B2CF9AE}" pid="4" name="Compression">
    <vt:r8>5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F:\Interex\hpworld_presentations\5000\5159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