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E5A-D2D5-4AD0-AC74-03DE187F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809-1387-4752-AC29-A1F1A53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8B0-E739-4917-A7BF-31F3C2A0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71C-AE41-4528-BFB0-4FA9AB33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504-9583-41C5-B0A5-8976FDB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33E-494E-4958-86A5-FE5FFC5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EC3-73E2-4424-A11F-7F829103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E39-442D-47D4-BE52-168CA60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E2C-E75C-4FFE-8D00-DC31013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772-6B16-4508-A48A-E86526E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C57-D78F-4FF8-AE79-7FE5D82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FF9-E7A8-4015-B7A6-41BCAB1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F7F-A797-460E-B790-7164A94A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03:06Z</dcterms:created>
  <dc:creator>3WC</dc:creator>
  <dc:description/>
  <dc:language>en-US</dc:language>
  <cp:lastModifiedBy>3WC</cp:lastModifiedBy>
  <dcterms:modified xsi:type="dcterms:W3CDTF">1998-07-08T18:18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Interex\hpworld_presentations\5000\515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